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0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3DDF-8322-4445-BD9D-EDAA74BDF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9DE2-EF11-49A9-9FBC-4974A65F9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B2AB-E3DE-455D-BE9D-4E2E19D62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851F-2B5C-4FFA-86CF-BD7F46D3C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EDE4-0767-40C1-AE93-DF7CACCA2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B880-7F86-46DF-B843-B03660660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5BDE40-5F6B-427D-9B94-CA48EFAAA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BD05-59FB-42E8-B52F-0A3965DB8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72AD4A-D86A-4766-83B3-64887E8B1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71E45A-5E5E-4A09-8A00-B4327F14E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3DF3-BF45-498B-9A72-DD9521110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A2EB-3885-41B7-984A-905FC0A9C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4C48A0-3F6C-4165-A649-0CBF93272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A06A-3DE8-4ABC-96A4-FF3774F9C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BFA8FB-CFB6-4D55-8F33-6140C3CD4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9F6A-EFE7-450E-852A-6C09BF895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8F42-EA64-47BB-980C-1CFBFFE5A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1E47FC-355A-4889-B89E-C7986475A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AD75-24C6-4B44-884D-3716E9E13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7CE9E-72CD-4C73-B596-A2EAFF9E1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EC84-996B-427B-A4D9-9F91878E5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65D5-E2CC-428C-91EF-3EEF837918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797DD-39B1-408B-962E-507683517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C3FD2-4606-4597-AAFE-C7A7EB2C1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2205-5D7C-466B-A6E3-E67BFB16A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6C770-6E23-451B-8DDE-21725907C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2589-B944-478A-BD85-8323C589E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D4C7C-A7A7-4933-9870-6E0445A17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626D-4372-4FB1-AA9E-8A8086DD6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EB7A-F6F5-4E10-95CD-ABBBDFD4B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FF64A-654F-4FD6-974D-280F05DC5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A1AA-90C6-4471-8F39-1C12D36BAB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520" y="1947960"/>
            <a:ext cx="53337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правление нештатными ситуациям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9" name="Picture 7" descr="2BSLATH"/>
          <p:cNvPicPr/>
          <p:nvPr/>
        </p:nvPicPr>
        <p:blipFill>
          <a:blip r:embed="rId1"/>
          <a:stretch/>
        </p:blipFill>
        <p:spPr>
          <a:xfrm>
            <a:off x="4648320" y="610704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WHO-EN-C-H"/>
          <p:cNvPicPr/>
          <p:nvPr/>
        </p:nvPicPr>
        <p:blipFill>
          <a:blip r:embed="rId2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1992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6838-7800-4198-BBFB-FFE3685A9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F9B6-32B0-4A30-81F1-A128D9AE2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193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4771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094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до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04920" y="266688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ята неправильная п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или отсутствующая марк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ое хранение пробы д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транспорт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 из-за неправильного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5639-AE20-4D1F-9ED8-1FFE578AC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35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во время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638680" y="121932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04920" y="1481040"/>
            <a:ext cx="830556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соблюдение устано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ача результатов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разведение или пипетирование пробы или реаг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 неправильно хранились или были использованы после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safety_cabinet_07_cdc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34BD-10A2-4577-B0A1-35B8A47EB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elderly_patient_doc"/>
          <p:cNvPicPr/>
          <p:nvPr/>
        </p:nvPicPr>
        <p:blipFill>
          <a:blip r:embed="rId1"/>
          <a:stretch/>
        </p:blipFill>
        <p:spPr>
          <a:xfrm>
            <a:off x="6324480" y="1523880"/>
            <a:ext cx="2176560" cy="2691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2666880" y="4724280"/>
            <a:ext cx="3429000" cy="99072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посл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0292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ие от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3526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143000" y="42670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6095880" y="4648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прет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80880" y="129528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итаемы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передан по неправильному адр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не пе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3DB2-FA51-4378-A36B-96BC8AEA3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следствия лабораторных ошибок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Organization Chart 7"/>
          <p:cNvGrpSpPr/>
          <p:nvPr/>
        </p:nvGrpSpPr>
        <p:grpSpPr>
          <a:xfrm>
            <a:off x="457200" y="1600200"/>
            <a:ext cx="8152920" cy="4220280"/>
            <a:chOff x="457200" y="1600200"/>
            <a:chExt cx="8152920" cy="4220280"/>
          </a:xfrm>
        </p:grpSpPr>
        <p:cxnSp>
          <p:nvCxnSpPr>
            <p:cNvPr id="291" name="_s16404"/>
            <p:cNvCxnSpPr>
              <a:stCxn id="292" idx="0"/>
              <a:endCxn id="293" idx="2"/>
            </p:cNvCxnSpPr>
            <p:nvPr/>
          </p:nvCxnSpPr>
          <p:spPr>
            <a:xfrm flipH="1" flipV="1">
              <a:off x="4525920" y="4146480"/>
              <a:ext cx="4032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6402"/>
            <p:cNvCxnSpPr>
              <a:stCxn id="295" idx="0"/>
              <a:endCxn id="296" idx="2"/>
            </p:cNvCxnSpPr>
            <p:nvPr/>
          </p:nvCxnSpPr>
          <p:spPr>
            <a:xfrm flipV="1">
              <a:off x="1680120" y="4146480"/>
              <a:ext cx="324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6400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705280" y="1447200"/>
              <a:ext cx="510120" cy="28522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6398"/>
            <p:cNvCxnSpPr>
              <a:stCxn id="293" idx="0"/>
              <a:endCxn id="299" idx="2"/>
            </p:cNvCxnSpPr>
            <p:nvPr/>
          </p:nvCxnSpPr>
          <p:spPr>
            <a:xfrm flipH="1" flipV="1" rot="5400000">
              <a:off x="4274280" y="2870280"/>
              <a:ext cx="510120" cy="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6396"/>
            <p:cNvCxnSpPr>
              <a:stCxn id="296" idx="0"/>
              <a:endCxn id="299" idx="2"/>
            </p:cNvCxnSpPr>
            <p:nvPr/>
          </p:nvCxnSpPr>
          <p:spPr>
            <a:xfrm flipH="1" flipV="1" rot="5400000">
              <a:off x="2852640" y="1445760"/>
              <a:ext cx="510120" cy="28551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16392"/>
            <p:cNvSpPr/>
            <p:nvPr/>
          </p:nvSpPr>
          <p:spPr>
            <a:xfrm>
              <a:off x="3308760" y="16002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6393"/>
            <p:cNvSpPr/>
            <p:nvPr/>
          </p:nvSpPr>
          <p:spPr>
            <a:xfrm>
              <a:off x="457200" y="3128400"/>
              <a:ext cx="244656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правильное ле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6395"/>
            <p:cNvSpPr/>
            <p:nvPr/>
          </p:nvSpPr>
          <p:spPr>
            <a:xfrm>
              <a:off x="3201120" y="3128400"/>
              <a:ext cx="265068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адекватные мероприятия здравоохран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6399"/>
            <p:cNvSpPr/>
            <p:nvPr/>
          </p:nvSpPr>
          <p:spPr>
            <a:xfrm>
              <a:off x="6166080" y="3128400"/>
              <a:ext cx="2444040" cy="1018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Потраченные впустую ресур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6401"/>
            <p:cNvSpPr/>
            <p:nvPr/>
          </p:nvSpPr>
          <p:spPr>
            <a:xfrm>
              <a:off x="457200" y="46566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   </a:t>
              </a: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Смер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6403"/>
            <p:cNvSpPr/>
            <p:nvPr/>
          </p:nvSpPr>
          <p:spPr>
            <a:xfrm>
              <a:off x="3342960" y="4656600"/>
              <a:ext cx="2446560" cy="1163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выявленные вспышки инфекционных заболеван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AutoShape 21"/>
          <p:cNvSpPr/>
          <p:nvPr/>
        </p:nvSpPr>
        <p:spPr>
          <a:xfrm>
            <a:off x="2971800" y="1295280"/>
            <a:ext cx="3200400" cy="1600200"/>
          </a:xfrm>
          <a:prstGeom prst="irregularSeal1">
            <a:avLst/>
          </a:prstGeom>
          <a:solidFill>
            <a:srgbClr val="c809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33526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MCj04247840000[1]"/>
          <p:cNvPicPr/>
          <p:nvPr/>
        </p:nvPicPr>
        <p:blipFill>
          <a:blip r:embed="rId4"/>
          <a:stretch/>
        </p:blipFill>
        <p:spPr>
          <a:xfrm>
            <a:off x="6553080" y="4191120"/>
            <a:ext cx="1774800" cy="16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MCj02505950000[1]"/>
          <p:cNvPicPr/>
          <p:nvPr/>
        </p:nvPicPr>
        <p:blipFill>
          <a:blip r:embed="rId5"/>
          <a:stretch/>
        </p:blipFill>
        <p:spPr>
          <a:xfrm>
            <a:off x="304920" y="4495680"/>
            <a:ext cx="81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MCBS00904_0000[1]"/>
          <p:cNvPicPr/>
          <p:nvPr/>
        </p:nvPicPr>
        <p:blipFill>
          <a:blip r:embed="rId6"/>
          <a:stretch/>
        </p:blipFill>
        <p:spPr>
          <a:xfrm>
            <a:off x="6629400" y="4800600"/>
            <a:ext cx="1725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8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33AB-9B28-4B1C-B8E3-68CA02170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Цикл при нештатных ситуац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0" name="Picture 30" descr="elderly_patient_doc"/>
          <p:cNvPicPr/>
          <p:nvPr/>
        </p:nvPicPr>
        <p:blipFill>
          <a:blip r:embed="rId1"/>
          <a:srcRect l="0" t="0" r="0" b="15533"/>
          <a:stretch/>
        </p:blipFill>
        <p:spPr>
          <a:xfrm>
            <a:off x="533520" y="16002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MCj04298270000[1]"/>
          <p:cNvPicPr/>
          <p:nvPr/>
        </p:nvPicPr>
        <p:blipFill>
          <a:blip r:embed="rId2"/>
          <a:stretch/>
        </p:blipFill>
        <p:spPr>
          <a:xfrm>
            <a:off x="3886200" y="990720"/>
            <a:ext cx="1600200" cy="1955520"/>
          </a:xfrm>
          <a:prstGeom prst="rect">
            <a:avLst/>
          </a:prstGeom>
          <a:ln w="0">
            <a:noFill/>
          </a:ln>
        </p:spPr>
      </p:pic>
      <p:sp>
        <p:nvSpPr>
          <p:cNvPr id="312" name="Oval 6"/>
          <p:cNvSpPr/>
          <p:nvPr/>
        </p:nvSpPr>
        <p:spPr>
          <a:xfrm>
            <a:off x="129528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нформир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124080" y="4295880"/>
            <a:ext cx="3048120" cy="2257200"/>
          </a:xfrm>
          <a:custGeom>
            <a:avLst/>
            <a:gdLst>
              <a:gd name="textAreaLeft" fmla="*/ 816120 w 3048120"/>
              <a:gd name="textAreaRight" fmla="*/ 2232000 w 3048120"/>
              <a:gd name="textAreaTop" fmla="*/ 604440 h 2257200"/>
              <a:gd name="textAreaBottom" fmla="*/ 16527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Diagram 2"/>
          <p:cNvGrpSpPr/>
          <p:nvPr/>
        </p:nvGrpSpPr>
        <p:grpSpPr>
          <a:xfrm>
            <a:off x="3773520" y="3108960"/>
            <a:ext cx="1901880" cy="1466640"/>
            <a:chOff x="3773520" y="3108960"/>
            <a:chExt cx="1901880" cy="1466640"/>
          </a:xfrm>
        </p:grpSpPr>
        <p:sp>
          <p:nvSpPr>
            <p:cNvPr id="315" name="_s3076"/>
            <p:cNvSpPr/>
            <p:nvPr/>
          </p:nvSpPr>
          <p:spPr>
            <a:xfrm>
              <a:off x="4103640" y="3124080"/>
              <a:ext cx="1241280" cy="97524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42920 h 975240"/>
                <a:gd name="textAreaBottom" fmla="*/ 832320 h 9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77"/>
            <p:cNvSpPr/>
            <p:nvPr/>
          </p:nvSpPr>
          <p:spPr>
            <a:xfrm rot="7200000">
              <a:off x="4406040" y="3220920"/>
              <a:ext cx="975240" cy="124164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640"/>
                <a:gd name="textAreaBottom" fmla="*/ 105948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78"/>
            <p:cNvSpPr/>
            <p:nvPr/>
          </p:nvSpPr>
          <p:spPr>
            <a:xfrm rot="14400000">
              <a:off x="4066920" y="3222000"/>
              <a:ext cx="975240" cy="124128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79"/>
            <p:cNvSpPr/>
            <p:nvPr/>
          </p:nvSpPr>
          <p:spPr>
            <a:xfrm>
              <a:off x="506448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3080"/>
            <p:cNvSpPr/>
            <p:nvPr/>
          </p:nvSpPr>
          <p:spPr>
            <a:xfrm>
              <a:off x="4475160" y="410400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3081"/>
            <p:cNvSpPr/>
            <p:nvPr/>
          </p:nvSpPr>
          <p:spPr>
            <a:xfrm>
              <a:off x="388620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657600" y="1219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5791320" y="3733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face_phone_results"/>
          <p:cNvPicPr/>
          <p:nvPr/>
        </p:nvPicPr>
        <p:blipFill>
          <a:blip r:embed="rId3"/>
          <a:stretch/>
        </p:blipFill>
        <p:spPr>
          <a:xfrm>
            <a:off x="1371600" y="4038480"/>
            <a:ext cx="1657440" cy="1265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spy_guy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9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FFCB-B215-458F-84E4-72024F551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ыявлять нештатные ситуации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8" name="Diagram 2"/>
          <p:cNvGrpSpPr/>
          <p:nvPr/>
        </p:nvGrpSpPr>
        <p:grpSpPr>
          <a:xfrm>
            <a:off x="666720" y="1295280"/>
            <a:ext cx="7809840" cy="4800240"/>
            <a:chOff x="666720" y="1295280"/>
            <a:chExt cx="7809840" cy="4800240"/>
          </a:xfrm>
        </p:grpSpPr>
        <p:sp>
          <p:nvSpPr>
            <p:cNvPr id="329" name="_s4100"/>
            <p:cNvSpPr/>
            <p:nvPr/>
          </p:nvSpPr>
          <p:spPr>
            <a:xfrm flipH="1" flipV="1">
              <a:off x="2819520" y="2895480"/>
              <a:ext cx="777240" cy="37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101"/>
            <p:cNvSpPr/>
            <p:nvPr/>
          </p:nvSpPr>
          <p:spPr>
            <a:xfrm>
              <a:off x="838080" y="1952640"/>
              <a:ext cx="2395080" cy="1290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ккредит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Сер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102"/>
            <p:cNvSpPr/>
            <p:nvPr/>
          </p:nvSpPr>
          <p:spPr>
            <a:xfrm flipH="1">
              <a:off x="2636640" y="3904560"/>
              <a:ext cx="965880" cy="13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103"/>
            <p:cNvSpPr/>
            <p:nvPr/>
          </p:nvSpPr>
          <p:spPr>
            <a:xfrm>
              <a:off x="666720" y="356940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иск В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104"/>
            <p:cNvSpPr/>
            <p:nvPr/>
          </p:nvSpPr>
          <p:spPr>
            <a:xfrm flipH="1">
              <a:off x="3582000" y="4482360"/>
              <a:ext cx="42732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105"/>
            <p:cNvSpPr/>
            <p:nvPr/>
          </p:nvSpPr>
          <p:spPr>
            <a:xfrm>
              <a:off x="2284560" y="487584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каза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106"/>
            <p:cNvSpPr/>
            <p:nvPr/>
          </p:nvSpPr>
          <p:spPr>
            <a:xfrm>
              <a:off x="5281560" y="4494960"/>
              <a:ext cx="433440" cy="54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107"/>
            <p:cNvSpPr/>
            <p:nvPr/>
          </p:nvSpPr>
          <p:spPr>
            <a:xfrm>
              <a:off x="4874400" y="4883040"/>
              <a:ext cx="20599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К</a:t>
              </a:r>
              <a:r>
                <a:rPr b="1" lang="en-US" sz="2000" spc="-1" strike="noStrike">
                  <a:solidFill>
                    <a:srgbClr val="ffd911"/>
                  </a:solidFill>
                  <a:latin typeface="Verdana"/>
                </a:rPr>
                <a:t> / </a:t>
              </a: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108"/>
            <p:cNvSpPr/>
            <p:nvPr/>
          </p:nvSpPr>
          <p:spPr>
            <a:xfrm>
              <a:off x="5540400" y="3904560"/>
              <a:ext cx="9691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109"/>
            <p:cNvSpPr/>
            <p:nvPr/>
          </p:nvSpPr>
          <p:spPr>
            <a:xfrm>
              <a:off x="6486480" y="356760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110"/>
            <p:cNvSpPr/>
            <p:nvPr/>
          </p:nvSpPr>
          <p:spPr>
            <a:xfrm flipV="1">
              <a:off x="5700600" y="2819520"/>
              <a:ext cx="776520" cy="37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4111"/>
            <p:cNvSpPr/>
            <p:nvPr/>
          </p:nvSpPr>
          <p:spPr>
            <a:xfrm>
              <a:off x="6061680" y="1981080"/>
              <a:ext cx="231876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Отсле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жал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4112"/>
            <p:cNvSpPr/>
            <p:nvPr/>
          </p:nvSpPr>
          <p:spPr>
            <a:xfrm flipV="1">
              <a:off x="4571640" y="255924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4113"/>
            <p:cNvSpPr/>
            <p:nvPr/>
          </p:nvSpPr>
          <p:spPr>
            <a:xfrm>
              <a:off x="3277080" y="1295280"/>
              <a:ext cx="2548800" cy="1263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Удовлетвор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л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4114"/>
            <p:cNvSpPr/>
            <p:nvPr/>
          </p:nvSpPr>
          <p:spPr>
            <a:xfrm>
              <a:off x="3576600" y="316548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3200400" y="2895480"/>
            <a:ext cx="2819520" cy="2174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d9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Анализ руко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DF1D-9386-430D-9F4B-C80FED0D8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Шаги расследова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0102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щательное рассле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корневых прич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4_log_book"/>
          <p:cNvPicPr/>
          <p:nvPr/>
        </p:nvPicPr>
        <p:blipFill>
          <a:blip r:embed="rId1"/>
          <a:stretch/>
        </p:blipFill>
        <p:spPr>
          <a:xfrm>
            <a:off x="762120" y="320040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MCj04315380000[1]"/>
          <p:cNvPicPr/>
          <p:nvPr/>
        </p:nvPicPr>
        <p:blipFill>
          <a:blip r:embed="rId2"/>
          <a:stretch/>
        </p:blipFill>
        <p:spPr>
          <a:xfrm>
            <a:off x="3657600" y="3505320"/>
            <a:ext cx="2705040" cy="250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MCj04316450000[1]"/>
          <p:cNvPicPr/>
          <p:nvPr/>
        </p:nvPicPr>
        <p:blipFill>
          <a:blip r:embed="rId3"/>
          <a:stretch/>
        </p:blipFill>
        <p:spPr>
          <a:xfrm>
            <a:off x="6172200" y="22096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FIL1506"/>
          <p:cNvPicPr/>
          <p:nvPr/>
        </p:nvPicPr>
        <p:blipFill>
          <a:blip r:embed="rId4"/>
          <a:stretch/>
        </p:blipFill>
        <p:spPr>
          <a:xfrm>
            <a:off x="6248520" y="4419720"/>
            <a:ext cx="275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0748-2F69-4C46-A467-3D6FC392B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ированное расследование, нацеленное на выявление истинной подлежащей причины проис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838080" y="2743200"/>
            <a:ext cx="7696440" cy="3506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каждый случай имеет более глубокую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ищите объяснение каждого происшествия на 5 уровнях, спрашивая ПОЧЕМУ, прежде чем решите, что истинная (корневая) причина най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"/>
          <p:cNvGrpSpPr/>
          <p:nvPr/>
        </p:nvGrpSpPr>
        <p:grpSpPr>
          <a:xfrm>
            <a:off x="0" y="533520"/>
            <a:ext cx="9144000" cy="5486400"/>
            <a:chOff x="0" y="533520"/>
            <a:chExt cx="9144000" cy="5486400"/>
          </a:xfrm>
        </p:grpSpPr>
        <p:sp>
          <p:nvSpPr>
            <p:cNvPr id="359" name="AutoShape 4"/>
            <p:cNvSpPr/>
            <p:nvPr/>
          </p:nvSpPr>
          <p:spPr>
            <a:xfrm>
              <a:off x="0" y="53352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6720" y="220968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396800" y="2209680"/>
              <a:ext cx="126972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3352680" y="2362320"/>
              <a:ext cx="114264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7492680" y="4647960"/>
              <a:ext cx="1143000" cy="76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5867280" y="4495680"/>
              <a:ext cx="1143000" cy="1141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4572000" y="365760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270080" y="2666880"/>
              <a:ext cx="126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2666880" y="2666880"/>
              <a:ext cx="38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317840" y="3340080"/>
              <a:ext cx="0" cy="9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317840" y="426708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"/>
            <p:cNvSpPr/>
            <p:nvPr/>
          </p:nvSpPr>
          <p:spPr>
            <a:xfrm>
              <a:off x="5079960" y="4871520"/>
              <a:ext cx="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6"/>
            <p:cNvSpPr/>
            <p:nvPr/>
          </p:nvSpPr>
          <p:spPr>
            <a:xfrm>
              <a:off x="5079960" y="5253840"/>
              <a:ext cx="71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7"/>
            <p:cNvSpPr/>
            <p:nvPr/>
          </p:nvSpPr>
          <p:spPr>
            <a:xfrm>
              <a:off x="7238880" y="5253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38"/>
          <p:cNvSpPr/>
          <p:nvPr/>
        </p:nvSpPr>
        <p:spPr>
          <a:xfrm>
            <a:off x="304920" y="320040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4648320" y="4572000"/>
            <a:ext cx="0" cy="838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114800" y="304812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1"/>
          <p:cNvSpPr/>
          <p:nvPr/>
        </p:nvSpPr>
        <p:spPr>
          <a:xfrm>
            <a:off x="4724280" y="556272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990720" y="3200400"/>
            <a:ext cx="380880" cy="6094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3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124080" y="213372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238880" y="4529160"/>
            <a:ext cx="175284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анализа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606D-D21B-4F74-B378-7DD2CAE25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55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74840" y="17240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1273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7238880" y="3905280"/>
            <a:ext cx="15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638440" y="513252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7D2B-2223-48CD-B39F-619B0F4E7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43200" y="2133720"/>
            <a:ext cx="3124080" cy="2514600"/>
          </a:xfrm>
          <a:prstGeom prst="irregularSeal1">
            <a:avLst/>
          </a:prstGeom>
          <a:solidFill>
            <a:srgbClr val="00007d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124080" y="44956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6172200" y="2286000"/>
            <a:ext cx="236232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c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1295280" y="2133720"/>
            <a:ext cx="1524240" cy="36576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80880" y="1828800"/>
            <a:ext cx="2210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8088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вите слабые места и запланируйт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720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упре-жда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5638680" y="549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ладьте ситуацию и ликвидируйте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3352680" y="45147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д-лен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рректи-ру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5334120" y="1295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сь на ошибках и избегайте их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9088400">
            <a:off x="4886280" y="2160720"/>
            <a:ext cx="1697040" cy="838080"/>
          </a:xfrm>
          <a:custGeom>
            <a:avLst/>
            <a:gdLst>
              <a:gd name="textAreaLeft" fmla="*/ 264960 w 1697040"/>
              <a:gd name="textAreaRight" fmla="*/ 1485000 w 16970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 rot="3045600">
            <a:off x="5024880" y="4194720"/>
            <a:ext cx="1752480" cy="11350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83680 h 1135080"/>
              <a:gd name="textAreaBottom" fmla="*/ 85140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2743200" y="2997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ec18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4748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термину «нештатная ситуац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основные подходы к отслеживанию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ать предупреждающие,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взаимосвязь между предупреждающими действиями и методами управления рис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и описать анализ корневых при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D179-C78D-45E3-9C8C-EDD7DBA35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9312-2C0D-49B5-AB15-38646E0FE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1520"/>
            <a:ext cx="78483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 управления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380880" y="1447920"/>
            <a:ext cx="8001000" cy="6858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3200400" y="5029200"/>
            <a:ext cx="3429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200400" y="3657600"/>
            <a:ext cx="26668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457200" y="3657600"/>
            <a:ext cx="251460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чин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нализир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380880" y="2362320"/>
            <a:ext cx="38959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80880" y="1550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недрите процесс для выявления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80880" y="2438280"/>
            <a:ext cx="4114800" cy="764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исывайте события и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124080" y="3657600"/>
            <a:ext cx="289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примите необходимые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200400" y="5105520"/>
            <a:ext cx="3581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едите за повторяющимися пробл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16002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411480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095880" y="2286000"/>
            <a:ext cx="289584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6095880" y="3124080"/>
            <a:ext cx="30481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оставьте информацию всем, кому она нуж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1" descr="4_log_book"/>
          <p:cNvPicPr/>
          <p:nvPr/>
        </p:nvPicPr>
        <p:blipFill>
          <a:blip r:embed="rId2"/>
          <a:stretch/>
        </p:blipFill>
        <p:spPr>
          <a:xfrm>
            <a:off x="4276800" y="2286000"/>
            <a:ext cx="1438200" cy="118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2" descr="spy_guy"/>
          <p:cNvPicPr/>
          <p:nvPr/>
        </p:nvPicPr>
        <p:blipFill>
          <a:blip r:embed="rId3"/>
          <a:stretch/>
        </p:blipFill>
        <p:spPr>
          <a:xfrm>
            <a:off x="1752480" y="5410080"/>
            <a:ext cx="1143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Что можно сказать о </a:t>
            </a:r>
            <a:r>
              <a:rPr b="1" lang="ru-RU" sz="3000" spc="-1" strike="noStrike">
                <a:solidFill>
                  <a:srgbClr val="00007d"/>
                </a:solidFill>
                <a:latin typeface="Verdana"/>
              </a:rPr>
              <a:t>ВАШЕЙ</a:t>
            </a: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 лаборатории?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те 5 самых частых ошибок, которые случаются в вашей лаборатории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происходят эти ошиб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немедленные действия вы предприняли в отношении прямых последств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меры можно предпринять для решения этих проблем и предотвращения повторения ошиб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задокументировали эти проблемы и действ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е вы взглянуть на ваши обычные процедуры с точки зрения возможностей для улучшения и предотвращения пробл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EE47-2233-4BBB-9720-C675DBE9F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422280"/>
            <a:ext cx="83822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49320"/>
            <a:ext cx="8763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активный процесс управления нештатными ситуациями, используя позитивный подх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ться выявлять проблемы как можно раньше и предпринимать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 возможности для выявления потенциальных ошибок, таким образом их предотвра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и полные записи по всем проблемам, их расследовании и предпринятым действ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57200" y="109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аборатория долж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5427-A0AC-42DF-82D5-AAA7B3CB8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98600"/>
            <a:ext cx="838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ое полож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ница между хорошо управляемой лабораторией и лабораторией, в которой отсутствует система качества, заключается в том, что в качественной лаборатории проблемы выявляют, расследуют и предпринимают соответствующие действ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4298-5100-4BEA-AA35-1C6E249B6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16CC-51A8-4CC2-BE91-F2C4CAEC0E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4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4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5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5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6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6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6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6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7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47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8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8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9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9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9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5D18-3EC9-4352-AA74-6695A78D11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01320"/>
            <a:ext cx="84582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83-летний мужчина поступил в больницу с высокой температурой, потерей веса и кашлем и проходил обследование на возможную опухоль. При исследовании мокроты был получен положительный результат на туберкулез, однако позже выяснилось, что результат был ошибочный. Ложноположитель-ная культура была получена в результате лабораторной контаминации. При дальнейшем расследовании ложноположительные культуры на туберкулез были обнаружены еще у 14 пациенто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C5D9-5714-4B2D-98A5-B71F80FA6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штатная ситуация в лаборатории и ее последств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ержка правильного диагно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нужное 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ложнения ле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рылась картина и других контамин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зрешения проблемы потребовалось расследование в течение 6 месяцев, потребовалось связаться с более чем 200 пациентами, многим из которых пришлось делать повторные анализы и рентгеновское обслед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мотр лабораторных процедур разрешил пробл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 лабораторных ошибок –  это время, энергия, деньги, 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результаты лечения пациентов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9931-0D28-4776-84D9-4B4793F43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нештатная ситуац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07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е событие, повлекшее за собой отрицательное воздействие на организацию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я персонал, продукт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е и окружающую ср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j0112624"/>
          <p:cNvPicPr/>
          <p:nvPr/>
        </p:nvPicPr>
        <p:blipFill>
          <a:blip r:embed="rId1"/>
          <a:stretch/>
        </p:blipFill>
        <p:spPr>
          <a:xfrm>
            <a:off x="3657600" y="3733920"/>
            <a:ext cx="2514600" cy="229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dd00016_"/>
          <p:cNvPicPr/>
          <p:nvPr/>
        </p:nvPicPr>
        <p:blipFill>
          <a:blip r:embed="rId2"/>
          <a:stretch/>
        </p:blipFill>
        <p:spPr>
          <a:xfrm>
            <a:off x="4724280" y="419112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pe02021_"/>
          <p:cNvPicPr/>
          <p:nvPr/>
        </p:nvPicPr>
        <p:blipFill>
          <a:blip r:embed="rId3"/>
          <a:stretch/>
        </p:blipFill>
        <p:spPr>
          <a:xfrm>
            <a:off x="1219320" y="3200400"/>
            <a:ext cx="3627360" cy="313848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03A5-F739-4B0C-867D-140B6AF21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которые частые нештатные ситуации в лаборатор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в идентификации пациен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нные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и при транспортировке проб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ация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делан неправильный анал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выполнен не по написанному протокол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648320" y="1676520"/>
            <a:ext cx="426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проверке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действие при контроле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жноотриц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авшие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л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арии 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и на гран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3A08-5512-4295-9ED1-952BACB0A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F866-8BC1-48B9-A916-AB5F14D6D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Diagram 2"/>
          <p:cNvGrpSpPr/>
          <p:nvPr/>
        </p:nvGrpSpPr>
        <p:grpSpPr>
          <a:xfrm>
            <a:off x="812880" y="677880"/>
            <a:ext cx="7873200" cy="5500440"/>
            <a:chOff x="812880" y="677880"/>
            <a:chExt cx="7873200" cy="5500440"/>
          </a:xfrm>
        </p:grpSpPr>
        <p:sp>
          <p:nvSpPr>
            <p:cNvPr id="222" name="_s1028"/>
            <p:cNvSpPr/>
            <p:nvPr/>
          </p:nvSpPr>
          <p:spPr>
            <a:xfrm flipH="1" flipV="1">
              <a:off x="3125160" y="228636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1064520" y="1065960"/>
              <a:ext cx="2089080" cy="13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обслуживание 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 flipH="1">
              <a:off x="2612520" y="343692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812880" y="2741040"/>
              <a:ext cx="1936440" cy="1375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К, ВОК не проводи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2"/>
            <p:cNvSpPr/>
            <p:nvPr/>
          </p:nvSpPr>
          <p:spPr>
            <a:xfrm flipH="1">
              <a:off x="3153240" y="397800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1217160" y="4339800"/>
              <a:ext cx="2089080" cy="1375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хранение тест-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4"/>
            <p:cNvSpPr/>
            <p:nvPr/>
          </p:nvSpPr>
          <p:spPr>
            <a:xfrm>
              <a:off x="4685760" y="411300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5"/>
            <p:cNvSpPr/>
            <p:nvPr/>
          </p:nvSpPr>
          <p:spPr>
            <a:xfrm>
              <a:off x="3657600" y="4802400"/>
              <a:ext cx="2086560" cy="1375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шибки в записях, нет прове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6"/>
            <p:cNvSpPr/>
            <p:nvPr/>
          </p:nvSpPr>
          <p:spPr>
            <a:xfrm>
              <a:off x="5651280" y="4096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7"/>
            <p:cNvSpPr/>
            <p:nvPr/>
          </p:nvSpPr>
          <p:spPr>
            <a:xfrm>
              <a:off x="6141240" y="4339800"/>
              <a:ext cx="2165400" cy="1375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бучение не проведено или не заверше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5651280" y="342684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9"/>
            <p:cNvSpPr/>
            <p:nvPr/>
          </p:nvSpPr>
          <p:spPr>
            <a:xfrm>
              <a:off x="6622200" y="2739240"/>
              <a:ext cx="2063880" cy="1375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аписанные процедуры не выполня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 flipV="1">
              <a:off x="5523480" y="2368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1"/>
            <p:cNvSpPr/>
            <p:nvPr/>
          </p:nvSpPr>
          <p:spPr>
            <a:xfrm>
              <a:off x="6141240" y="1065960"/>
              <a:ext cx="1936440" cy="1375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написанных процед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2"/>
            <p:cNvSpPr/>
            <p:nvPr/>
          </p:nvSpPr>
          <p:spPr>
            <a:xfrm flipV="1">
              <a:off x="4685760" y="205308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3"/>
            <p:cNvSpPr/>
            <p:nvPr/>
          </p:nvSpPr>
          <p:spPr>
            <a:xfrm>
              <a:off x="3581280" y="677880"/>
              <a:ext cx="2225160" cy="1375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четкое распределение обязан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4"/>
            <p:cNvSpPr/>
            <p:nvPr/>
          </p:nvSpPr>
          <p:spPr>
            <a:xfrm>
              <a:off x="3717360" y="2741040"/>
              <a:ext cx="1936440" cy="1375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3505320" y="2743200"/>
            <a:ext cx="2361960" cy="155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Частые причины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ECFD-279D-4030-80AD-FED05E070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948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904"/>
                </a:solidFill>
                <a:latin typeface="Verdana"/>
              </a:rPr>
              <a:t>Ошибки могут случиться по ходу всего процесс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430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4864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93432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4771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324480" y="506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45:04Z</dcterms:modified>
  <cp:revision>180</cp:revision>
  <dc:subject/>
  <dc:title>Slide 1</dc:title>
</cp:coreProperties>
</file>